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47F-6B01-4535-B7FE-ED6C5FD2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606-9A43-4909-ACFE-AC1EED2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999-9DBC-4D3F-8AF7-C9C6E4BC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C35-5FBB-4FE6-988C-BA8C45DB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1FC-319B-4ED0-88AE-A585CF8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F55-C7AB-4DAE-BFE3-9ABC7BA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372-46E1-4D7D-A100-4F5FC7C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120-10BF-4513-867F-B05DDEE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18B-4C24-46A7-98D8-9EFE3BB8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A6B-E527-4976-8D76-A5DCCFD9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A07-CA5C-4AFF-AFBF-5A9CC34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23D-CDA8-4179-BFD6-F8A119F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CAE-CF64-428D-B29C-3BFF4A68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ergarte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1:14:14Z</dcterms:created>
  <dc:creator>KGladden</dc:creator>
  <dc:description/>
  <dc:language>en-US</dc:language>
  <cp:lastModifiedBy>KGladden</cp:lastModifiedBy>
  <dcterms:modified xsi:type="dcterms:W3CDTF">2008-09-12T01:23:26Z</dcterms:modified>
  <cp:revision>4</cp:revision>
  <dc:subject/>
  <dc:title>High Frequency Words</dc:title>
</cp:coreProperties>
</file>